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477-8D0A-40B1-946A-23DDDF27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6098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A1C-B40C-4D63-8E67-185D9869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60988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560988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2FD-545E-4F24-AF99-4632935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501336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501336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60988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560988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5609880"/>
            <a:ext cx="264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FFB-6662-4772-9EEA-B740818C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8D0-3875-4104-B273-D4129932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8BC-2A42-4AB9-863B-2DDC562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4015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013360"/>
            <a:ext cx="4015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244-EFCF-4FD0-856B-253063D8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8C8-E1B3-4B46-BE02-C6A1D64A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4A9-B7FF-43F1-B2E1-161892D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5013360"/>
            <a:ext cx="4015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60988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9DD-AF41-4B2F-9B92-4B22FE6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40158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560988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51A-CA6C-41CB-A032-F079A8C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5013360"/>
            <a:ext cx="40158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6098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5F5-EF7E-4CA3-9362-7ED017A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501336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8920" indent="-88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AE6B-C221-4ECE-B31B-BD2B53557B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0464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5661000"/>
            <a:ext cx="77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llkommen zur Fotogeschichte des größten Open Space der We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3. Mai 2003 in Würzburg,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19280" y="58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“Schmetterlinge“ zeichn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kate schreiben. (Das dürfte wohl das „Gesetz der zwei Füße“ wer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58053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zu vergessen die Stif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89120" y="580536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die Berichtsblä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2000" y="54936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08200" y="5797440"/>
            <a:ext cx="57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schaut noch nicht besonders nach Arbeitsgruppenraum au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2000" y="47628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46200" y="5805360"/>
            <a:ext cx="60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hm, das ist schon bes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2000" y="54936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24000" y="58053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wie kriegen wir das jetzt hin?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84360" y="5805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bei: die Ballons mit den Plakaten in der Luft funktionieren wirklich su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98720" y="404640"/>
            <a:ext cx="3392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0000" y="5805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die Kiss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24000" y="549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2560" y="5805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in Gott, das müssen ja tausende s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805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Lageplan: Zwei riesige Zelte, mit einem Durchgang verbu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3640" y="62064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19280" y="5805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e Arbeitstunden spä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9856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te Nacht Leute, wir sehen uns morgen!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50920" y="476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5805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uh, müde. Auf ins Bett. Und nur zwei Stunden Schlaf heu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000" y="54936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3640" y="58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nächsten Morgen, um 6h49 frü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0" y="5805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entlang bit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22480" y="620640"/>
            <a:ext cx="32972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00360" y="5805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h 30 Minut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ison Owen konzentriert sich auf den Auftri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81280" y="47628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9640" y="5805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enge wäch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03640" y="5805360"/>
            <a:ext cx="45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wäch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000" y="54936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2560" y="5805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wäch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55640" y="5805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h 1 Minute! 2108 warten auf den Begi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1560" y="5805360"/>
            <a:ext cx="68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Thema. Ein Tag Open Space als Abschluss eines viertägigen Aufstellungs-Kongre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0920" y="404640"/>
            <a:ext cx="68407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1280" y="580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k, auf geht‘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55640" y="5805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 Kreis gehen“ im Duett - Harrison auf englisch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8720" y="476280"/>
            <a:ext cx="3344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47640" y="5805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Michael auf deuts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1640" y="580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t als Übersetzun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47640" y="5805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rn jeder auf seine 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0560" y="47628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0000" y="5805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Open Space Spirit entste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24000" y="549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32000" y="5805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jetzt ist der Augenblick gekomm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2560" y="5805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für die Anliegen eurer Leidenscha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81280" y="47628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5805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schön anstrengend die Warterei, bis man drankomm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00280" y="549360"/>
            <a:ext cx="3941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19480" y="5465880"/>
            <a:ext cx="578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80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lange ist ziemlich la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0560" y="47628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14560" y="5805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ürlich gab es einen Zeitpl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8720" y="476280"/>
            <a:ext cx="3344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08000" y="5805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und immer nur einer vo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5280" y="580536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hat ihre Ankündigung schon geschaff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55640" y="5805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während sich andere entspann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71640" y="5805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oder einfach zuschau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81280" y="47628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 rot="10800000">
            <a:off x="1908000" y="580428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Anliegentafel: 150 m l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55640" y="5805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für eine Auswahl, 232 Worksho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63640" y="58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e Workshops klingen mehr appellier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66920" y="5805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e anrege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87640" y="58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es gibt auch Hil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08000" y="5805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 nicht so leicht, sich zu entscheid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0920" y="476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4920" y="5805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und ein Team für die Vorbereitung und Durchführ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22560" y="580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ein ziemlicher Weg, um sie alle abzulauf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63640" y="58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kann einen schon umhau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8560" y="5805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wie finde ich jetzt meine Gruppe?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000" y="549360"/>
            <a:ext cx="7560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35280" y="522936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5805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merierte Luftballons weisen den We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0000" y="5805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und manchmal gibt es sogar Wegwei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55640" y="58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auch immer, dutzende Arbeitsgruppen in drei Arbeitsru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58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so unterschiedliche Arten sich wohl zu fühlen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 Sessel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50920" y="476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35280" y="537372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43280" y="5805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am Bod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4240" y="549360"/>
            <a:ext cx="66355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08000" y="5805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des zugle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84360" y="5805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e Gruppen waren groß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5805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schön viel zu t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5300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58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e klei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14560" y="5805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nchen war es ziemlich gedräng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24000" y="580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wieder andere waren klitze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08280" y="476280"/>
            <a:ext cx="372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74920" y="5805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Open Space gibt es immer „Schmetterlinge“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1160" y="476280"/>
            <a:ext cx="67802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66920" y="5805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h mehr Schmetterlin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81280" y="54936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35280" y="580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einzelner Schmetterling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654280" y="476280"/>
            <a:ext cx="383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76360" y="58053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müder Schmetter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22200" y="549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95640" y="5805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mal müssen sich die Menschen ausrast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27280" y="5805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r Sonne erhol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66920" y="5805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r auch im Biergar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81280" y="47628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7640" y="580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mern schreib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16000" y="5805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che tanzen (oder ist es Taj Chi?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03640" y="5877000"/>
            <a:ext cx="45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24000" y="549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06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r essen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81280" y="54936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87640" y="58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braucht eine Riesenküch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4240" y="549360"/>
            <a:ext cx="66355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0000" y="5805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,,um diese Menschenmasse zu ernäh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24000" y="549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95280" y="5805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Open Space Team ist noch immer bei der Arbe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90560" y="58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ichtsblätter einsammel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87640" y="58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pier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08000" y="5805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und die vergrößerten Berichte aufhä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82560" y="573408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neue Buch von Harrison Owen verkauf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898720" y="476280"/>
            <a:ext cx="3344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4000" y="58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ftballons aufblas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8280" y="549360"/>
            <a:ext cx="372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43280" y="5805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r völlig präsent und absolut unsichtbar beim Nicker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22200" y="549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43280" y="5805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Nachmittag weitere Arbeitsgruppen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fstellungsarbe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87640" y="580536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ch mehr Aufstellungs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222200" y="549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5280" y="580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e bei der Körperarbe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32000" y="5805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wegu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48000" y="580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ben sich „Gratisumarmungen“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81280" y="549360"/>
            <a:ext cx="37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580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utier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22200" y="47628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30560" y="5805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en einfach Spaß mitein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47640" y="5805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letzt: Abschlussrunde, wieder zurück im Kre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11280" y="5805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che sind schon weg, aber noch immer eine ziemliche Menschenme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 rot="10800000">
            <a:off x="1258920" y="580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ele Ballon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11280" y="5805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haben wir in diesem Open Space erlebt?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ikros stehen ber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0000" y="5805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„Medicine Wheel“ hilft uns dabei, Open Space zu versteh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90560" y="549360"/>
            <a:ext cx="75614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32000" y="5805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weiteres Duet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Harrison und Michael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63640" y="54936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47640" y="5805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Aufmerksamkeit ist noch immer h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2200" y="549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43280" y="5805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dann: Vorbei ist vorbe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5805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für den Abschi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7520" y="549360"/>
            <a:ext cx="670716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74920" y="58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 Mist in die Säcke  und die Erfahrung ins Herz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werde den Tag nie verge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24000" y="54936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635280" y="907920"/>
            <a:ext cx="55087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h hoffe, die Geschichte hat Ihnen Spaß gemac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ahl, Arrangement und Text v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ich Kolenaty, W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len Dank an die Fotographen, die ihre Bilder zur Verfügung gestellt haben und an Jo Töpfer, der das Material gesammelt und vor-ausgewählt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len Dank an Albrecht und Brigitte Mahr, die Veranstalter des Kongresses „Leidenschaft und Verantwortung“, an die Begleiter des Open Space Harrison Owen und Michael M Pannwitz, an den Open Space Staff, die Helfer vor Ort und die 2108 Menschen, die das Ereignis wahr werden ließ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war ein toller Ta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241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4:04:15Z</dcterms:created>
  <dc:creator>Erich Kolenaty</dc:creator>
  <dc:description/>
  <dc:language>en-US</dc:language>
  <cp:lastModifiedBy>Erich Kolenaty</cp:lastModifiedBy>
  <dcterms:modified xsi:type="dcterms:W3CDTF">2003-05-21T15:20:10Z</dcterms:modified>
  <cp:revision>22</cp:revision>
  <dc:subject/>
  <dc:title>Folie 1</dc:title>
</cp:coreProperties>
</file>